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841-FE86-4626-A6E7-EA310FF6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E69-F223-47CB-A6D6-F8A9346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BEB-977D-49E4-9EE9-4385116F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935-4DAC-4CC6-A609-260C3A13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CFE-7983-4703-9EA6-026C853B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2FA-A901-453F-9339-1156742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8BA-B3D4-4996-B0CB-EE7DC6EA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9CD-945F-4492-A7D6-5780994F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A489-2738-4B8E-A306-A3F83865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AC8-2A61-47FF-9E11-1637D3C5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494-0053-4DD5-A79B-EAF07D8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613-1A00-44C3-9E4E-B4BBF6E9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363-DFB2-4A4E-97AE-820036128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07960" y="1447920"/>
            <a:ext cx="47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10552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y Mr Moorho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ww.SchoolHistory.co.uk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ww.SchoolsHistory.org.u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ing all of the available resources. Explain how the Nazi Party used propaganda to strengthen  their position once in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5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5050"/>
                </a:solidFill>
                <a:latin typeface="Verdana"/>
              </a:rPr>
              <a:t>See following slide for some advice on what to include in your answ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nswering the Question</a:t>
            </a:r>
            <a:br>
              <a:rPr sz="2000"/>
            </a:b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Using all of the available resources. Explain how the Nazi Party used propaganda to strengthen  their position once in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ption of how each form of media was manipulated will NOT attain a high 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ure that you make the purpose of propaganda 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trong answer will recognise that no one method of Propaganda is successful in 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requency of broadcasts and number of public images must be emphas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ysis of how the combined media onslaught would influence the opinions of ordinary Germans is necessary for a high level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erence to the available source material and some appraisal of it’s purpose and worth will enhance the quality of your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propagan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WINDOWS\Application Data\Microsoft\Media Catalog\goebbels.jpg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pairs discuss different ways in which a government could attempt to ‘brainwash’ the population. Make a brief note of your id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nk about what legislation (laws) that a government could introduce to aid their propaganda campa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: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WINDOWS\Application Data\Microsoft\Media Catalog\poster_small_waffen-ss.gif"/>
          <p:cNvPicPr/>
          <p:nvPr/>
        </p:nvPicPr>
        <p:blipFill>
          <a:blip r:embed="rId1"/>
          <a:stretch/>
        </p:blipFill>
        <p:spPr>
          <a:xfrm>
            <a:off x="1127160" y="198108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amples of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3" descr="C:\My Documents\My Webs\weimarandnazigermany\1927.jpg"/>
          <p:cNvPicPr/>
          <p:nvPr/>
        </p:nvPicPr>
        <p:blipFill>
          <a:blip r:embed="rId1"/>
          <a:stretch/>
        </p:blipFill>
        <p:spPr>
          <a:xfrm>
            <a:off x="1295280" y="1600200"/>
            <a:ext cx="2183040" cy="15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My Documents\My Webs\weimarandnazigermany\1920a.jpg"/>
          <p:cNvPicPr/>
          <p:nvPr/>
        </p:nvPicPr>
        <p:blipFill>
          <a:blip r:embed="rId2"/>
          <a:stretch/>
        </p:blipFill>
        <p:spPr>
          <a:xfrm>
            <a:off x="3809880" y="160020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My Documents\My Webs\weimarandnazigermany\trotz.jpg"/>
          <p:cNvPicPr/>
          <p:nvPr/>
        </p:nvPicPr>
        <p:blipFill>
          <a:blip r:embed="rId3"/>
          <a:stretch/>
        </p:blipFill>
        <p:spPr>
          <a:xfrm>
            <a:off x="1295280" y="3505320"/>
            <a:ext cx="17510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My Documents\My Webs\weimarandnazigermany\dawes.jpg"/>
          <p:cNvPicPr/>
          <p:nvPr/>
        </p:nvPicPr>
        <p:blipFill>
          <a:blip r:embed="rId4"/>
          <a:stretch/>
        </p:blipFill>
        <p:spPr>
          <a:xfrm>
            <a:off x="3886200" y="3581280"/>
            <a:ext cx="1724040" cy="24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My Documents\My Webs\weimarandnazigermany\niemals.jpg"/>
          <p:cNvPicPr/>
          <p:nvPr/>
        </p:nvPicPr>
        <p:blipFill>
          <a:blip r:embed="rId5"/>
          <a:stretch/>
        </p:blipFill>
        <p:spPr>
          <a:xfrm>
            <a:off x="6235560" y="3429000"/>
            <a:ext cx="174636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My Documents\My Webs\weimarandnazigermany\schluss.jpg"/>
          <p:cNvPicPr/>
          <p:nvPr/>
        </p:nvPicPr>
        <p:blipFill>
          <a:blip r:embed="rId6"/>
          <a:stretch/>
        </p:blipFill>
        <p:spPr>
          <a:xfrm>
            <a:off x="6289560" y="1143000"/>
            <a:ext cx="14097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tler’s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438280" y="30481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tler is considered to have been one of the greatest public speakers of all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70040" y="8380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15238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 was used to show Hitler in a positive light as often a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Nazi’s commissioned several films, each carefully portraying a certain image – try to think what this may have been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2:56:27Z</dcterms:created>
  <dc:creator>Dan</dc:creator>
  <dc:description/>
  <dc:language>en-US</dc:language>
  <cp:lastModifiedBy>.</cp:lastModifiedBy>
  <dcterms:modified xsi:type="dcterms:W3CDTF">2010-03-12T08:10:35Z</dcterms:modified>
  <cp:revision>7</cp:revision>
  <dc:subject/>
  <dc:title>Nazi Propaganda</dc:title>
</cp:coreProperties>
</file>